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pct" ContentType="image/x-pict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BC86-3F73-4521-A4A2-7D2D9EFAE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BD46-DBF5-4227-9ADE-DB331AF8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3775-EAF9-4051-A450-11FFC06B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B465-7254-4140-B597-FCA08A71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905B-4457-480A-8C80-68209030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FBB5-9A12-4044-9B92-E911469D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56DB-13B2-4386-95BF-C8D78069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4CA5-6418-4726-9465-68DD15CB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1F7B-65DB-4632-B76B-DD660485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0C79-2749-42DA-B3F0-F4E45798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FBDA-3E1C-469C-9E00-7477F7E9A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93C4-6EFA-4166-9A0B-D7C5C1E96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39612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1016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2"/>
          <p:cNvSpPr/>
          <p:nvPr/>
        </p:nvSpPr>
        <p:spPr>
          <a:xfrm>
            <a:off x="3240" y="0"/>
            <a:ext cx="9140760" cy="1600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LECTRONIC COMMUN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67ab"/>
                </a:solidFill>
                <a:latin typeface="Verdana"/>
              </a:rPr>
              <a:t>A SYSTEMS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5154840" y="297180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0132988631b.jpg"/>
          <p:cNvPicPr/>
          <p:nvPr/>
        </p:nvPicPr>
        <p:blipFill>
          <a:blip r:embed="rId4"/>
          <a:stretch/>
        </p:blipFill>
        <p:spPr>
          <a:xfrm>
            <a:off x="609480" y="1905120"/>
            <a:ext cx="321624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50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2289-315D-4A60-A8C5-2CEE5934AEDC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F83B-FDFF-4F15-8194-8EF4ADF8BF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5029200" y="3809880"/>
            <a:ext cx="38098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Digital Modulation and Demod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6736320" y="255888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  <a:ea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andwidth Considerations of Modulated Signal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andwidth of modulated signal twice that of highest modulating signal frequency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ymbo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ing of two or more bi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aud ra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mbol ra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-Ary Modulation Techniqu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-Ary PS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loys two data channels; one phase-shifted by 90° with respect to the oth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n-phase-shifted chann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 (for “in-phase”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-shifted chann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 (for “quadrature”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-Ary Modulation Techniqu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-Ary PS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ch channel contributes to direction of vector within phase constell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PSK transmiss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ata bandwidth compress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-Ary Modulation Techniqu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-Ary PS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PSK and forms of M-Ary modulation carried out with DSP-based chipse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 and Q bit streams considered two independent components of modulated signal that, when combined, form composite sign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-Ary Modulation Techniqu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adrature Amplitude Modul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PSK technique can be extended to more than four phase sta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eight states, each point on constellation represents 3-bit binary symbo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tellation pattern visual indication of system linearity and noise performan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-Ary Modulation Techniqu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ffset Modul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cause QAM schemes based in part on amplitude modulation, they suffer from drawbacks associated with any form of A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pectral Efficiency, Noise Performance, and Filter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pectral Efficienc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bining bits into multiple-bit symbols improves bandwidth efficienc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ndwidth effici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 of how well modulation scheme handles data within defined bandwidth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Table 8-2: Spectral Efficiencies of Digital Modulation Forma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38280" y="3085920"/>
            <a:ext cx="4267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8-2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Spectral Efficiencies of Digital Modulation Formats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Picture 8" descr="tab08_01.jpg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427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pectral Efficiency, Noise Performance, and Filter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ise Perform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ulation methods having fewest symbols or lower spectral efficiencies have best performance in presence of nois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t error rate (B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gnal-to-noise (S/N) rat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rrier-to-noise (C/N) rat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pectral Efficiency, Noise Performance, and Filter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lter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duce transmitted bandwidth without removing content of data to be transmit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igital Modulation Techniqu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gital Modul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ifying amplitude, frequency, or phase characteristics of carrier with data stream representing ones and zeroes of computer languag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plest schemes change carrier state with each bit of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plitude-shift keying (ASK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-shift keying (PSK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Complex Exponential and Analytic Signal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plex Numb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ed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 quantity (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 composed of both resistance (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 and reactance (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components 90° out of phase with resistive compon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lex ope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rithmetic operations involving both real and imaginary quanti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Complex Exponential and Analytic Signal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nalytic Frequenc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cept abstract; useful in how digital modulation and demodulation carried out in DSP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Complex Exponential and Analytic Signal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SP Modulation and Demodul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ulation of I/Q sig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53000" indent="-2214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cess of frequency up-conversion; moving baseband frequency range to higher frequency range of carri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band signal both positive and negative frequency componen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ations of modulators and demodulators as DSP functions avoid all problems of analog circuit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ideband Modul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pread-Spectrum Techniqu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ccupied bandwidth deliberately made to be much greater than specified by Hartley’s law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equency hopping and direct sequ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preading out transmitted energy over wide bandwidth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ideband Modul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pread-Spectrum Techniqu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llular telephones, mobile Internet, wireless local-area networks (WLANs), automated data collection systems using portable scanners of universal product code (UPC) cod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ideband Modul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pread-Spectrum Techniqu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stream of data bits displaying pseudonoise (PN) characteristic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read-spectrum circuits have PN sequence generators integrated into system I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ideband Modul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pread-Spectrum Techniqu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equency-hopping spread spect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formation signal modulates carrier switched in frequency in pseudorandom fash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-sequence spread spectrum (DSS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s for cellular systems employing CDMA standar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ideband Modul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rthogonal Frequency-Division Multiplexing (OFDM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-carrier (multi-tone) modul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mits data at slow rates over multiple carriers simultaneously; achieves high spectral efficienci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ormation divided into multiple data strea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ideband Modul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rthogonal Frequency-Division Multiplexing (OFDM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DM modulation converse of demodul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D radio technolo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-band on-channel (IBOC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lash OFD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pread-spectrum technolog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igital Modulation Techniqu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mplitude-Shift Key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ying” holdover from Morse code er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inuous wave (CW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rrier conveying intelligence by simply turning it on or off according to prearranged cod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o-tone modu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m of AM, but in it carrier always transmit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igital Modulation Techniqu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equency-shift Key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equency modu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dulating wave shifts output between two predetermined frequenc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ration of FSK accomplished by switching additional capacitor into tank circuit of oscillator when transmitter key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igital Modulation Techniqu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hase-shift Key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mitted binary data cause phase of sine-wave carrier to shift by defined amou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igital Modulation Techniqu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ynchronization and Carrier Reinser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rier synchroniz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ing reference carrier signal for product detector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art of carrier synchronizer; used for all forms of digital modu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igital Modulation Techniqu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fferential Phase-shift Keying (DPSK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PSK uses BPSK vector relationship for generating an output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PSK receiver simpler to impl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es not require coherent carrier recovery sub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igital Modulation Techniqu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inimum Shift Key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dely used variation on FSK/PSK; used in cordless phon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inuous-phase FS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63800" indent="-22392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iods of mark and space frequencies such that cycles of sine-wave carrier cross zero right at edges of modulating-signal pulse transi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nimizes bandwidth by ensuring smooth transition between data sta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andwidth Considerations of Modulated Signal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andwidth of channel will not be infinit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ansmitted pulse not perfect rectangl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andwidth requirements for data stream depend on encoding method used to transmit dat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deb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m and difference frequenci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12:47:34Z</dcterms:created>
  <dc:creator>Thomas Dunn</dc:creator>
  <dc:description/>
  <dc:language>en-US</dc:language>
  <cp:lastModifiedBy>Thomas Dunn</cp:lastModifiedBy>
  <dcterms:modified xsi:type="dcterms:W3CDTF">2013-05-14T05:16:19Z</dcterms:modified>
  <cp:revision>6</cp:revision>
  <dc:subject/>
  <dc:title>Slide 1</dc:title>
</cp:coreProperties>
</file>